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BF2-1479-4A6E-8B66-8DB9D9E0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7DD-ED25-4206-9630-A32296B2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E46-DBA1-42FD-ADFB-17711BA6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161-8B09-4040-A3E2-E843C12F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07C-980B-48B9-9D6A-477018C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A4F-C4C5-45CE-AB56-2D2A73B5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ECB-445F-4BCF-B05C-802B7E1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5B6-AA74-4E95-9FED-40818BED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604-6D42-4657-BDE6-1A9A297F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2E4-850A-4C0A-9512-874C169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44C-E689-47A9-8C41-78C8031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282-A261-4F09-8BBB-0E73206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542E-F992-4DAC-950B-7039970A1329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 Linux Forum Members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9B28-126F-4F8B-B776-3FDF1369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ELinuxForumLogo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wn.net/Articles/135472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wn.net/Articles/167315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wn.net/Articles/167315/" TargetMode="External"/><Relationship Id="rId3" Type="http://schemas.openxmlformats.org/officeDocument/2006/relationships/hyperlink" Target="http://lwn.net/Articles/152436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Linux B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 Bi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Engineer, Sony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, CE Linux Forum Architectur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BF5-BFA2-486C-B823-9DD887A506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ze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at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testlab.celinuxforum.org/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 siz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at CELF Project B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5CD-60E3-4190-9A44-A4569D901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Ar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er than SE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enough for embedded work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M in peri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985-ACDB-422C-96A9-336CB0B4FB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tup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P - Execute 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info: http://lwn.net/Articles/135472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AFS - new file system specifically for X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red Hulbert (Intel) posted for 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wn.net/Articles/182337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6AE-7863-42C4-A274-1B4C156985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space software su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st kerfluffle over suspend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s has posted a new patch, showing 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lwn.net: http://lwn.net/Articles/1894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PM su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wn.net/Articles/1816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issues:  See PM BOF 19:00 Ro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579-AB88-4B28-9234-A55E91B404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dio/Video/Graph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direct rendering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wn.net/Articles/167315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ELF AVG Spec. (2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FB, ALSA, OpenGL/ES, UH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F2C-EE27-470D-A811-0147307A0E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bile phone stu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F specification still in-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organizations than you can “shake a stick at”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F MPP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DL M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11C-F044-4961-9B41-849F11EA76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TTgn just recently re-added lots of architectur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TTng, KFT, LKST - See Tracing BOF, 19:00 Room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Leak Trac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mb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766-E9B4-4B6C-BD6F-7CA26938F2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re-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wn.net/Articles/173657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PL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to see here, move alo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B9B-ACAE-4373-A00B-57BDB99561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s from the Kernel Su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M stays for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/resume still messe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ansparent super-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leaders sympathetic to size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tuff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CFB-0AB7-4603-83DD-3FA6E20C0D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meless pl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Project B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day night, 7:00 pm, Les Su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F Test Lab 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 siz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I CPU resource 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 Jambore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show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37D-7DB2-4FB2-9CC2-F586AEA46B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Linux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in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meless pl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ded Linux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ning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583-CC40-4FFF-937D-724C57D742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ed Linux W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to store info on embedded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r material from CELF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d maintenance, to avoid wiki r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F may fund, if plan looks good and there’s community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 this week to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CBA-9301-4D97-8ED3-B20B889E13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ning tal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inutes (m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? / what is the issue? when will you publish!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it quick and to-the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go for more inf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DEE-8629-485C-B19E-38A98D3D27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ning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AD4-0C92-4583-A8D1-9DF2091ECC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ear in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/Video/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206-BB77-4D9B-87BE-54C60B199D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timers (2.6.18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sources (2.6.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R tim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wn.net/Articles/16731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timers explan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wn.net/Articles/152436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IRQ (2.6.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ckless Idle c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59E-57EB-4025-A975-C0CB92FC4C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t-Preemp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ine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tuff in, “only”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ing spin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ed IR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Inheritance (2.6.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wn.net/Articles/177838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ncy tra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701-A4DD-4270-9603-C022E5155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-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uash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de Sli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-at-a-time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atw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 siz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3DA-EB68-4CA4-9DB2-8068A9D5BD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x-tiny mainl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-8023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_open-inlines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ode-inlines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locks-inline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at-o-meter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-doublefault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-elf-core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b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-vm86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id16.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83A-2934-4FC5-8BB9-3A3317291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ode Slimming Pat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3 - Ted Tso (not mainlined y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d Tso - if you want to save memory taken up by in-core inodes, the first thing you should do is disable the debugging options; they are responsible for a huge amount of bloat in the VFS inode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0D0-46BB-473F-8BEE-00A7DE6CCF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-at-a-time Comp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o Molnar patch to utilize gcc 4 unit-at-a-time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kml.org/lkml/2005/12/28/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lwn.net/Articles/165354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line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_always_inline_ attrib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wn.net/Articles/167315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lwn.net/Articles/16535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EEA-97EF-4B1D-A269-9EC40096BE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Tim Bird</cp:lastModifiedBy>
  <dcterms:modified xsi:type="dcterms:W3CDTF">2006-07-24T15:49:58Z</dcterms:modified>
  <cp:revision>13</cp:revision>
  <dc:subject/>
  <dc:title>PowerPoint Presentation</dc:title>
</cp:coreProperties>
</file>